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59B2-7C33-438B-B3BF-D535391F9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E2B3-4B6E-4931-86FA-B4B85A847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FE84-9D37-4D53-8452-284933CA43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4F0B-75E1-47F1-AC7F-0945ADAF6C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FFF4-7E28-40B3-A9B9-022D62E55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A73D-875F-4401-A6A2-7382A8F425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1B75-687F-4404-B843-7BA9A129B4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1A4F-1A89-41C0-8EB5-1DAF3A7E57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DAAC-61F3-420F-95C2-48A50AA45F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1705-3161-4A21-9DC9-3762FBAEAF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00AA-7F45-4740-9B32-9B077CB828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CB0F-1A24-48D6-9CFD-8DADEE4E3C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EB5E-301E-4F7A-BE62-F326C38DC6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BA55-9982-42E2-8F11-59B9387C31D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793D-94CB-441D-ABAC-CB9421AFB75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T 6, Bab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tional co-operation and co-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, challenges and lessons learned 2013-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Placeholder 2"/>
          <p:cNvSpPr/>
          <p:nvPr/>
        </p:nvSpPr>
        <p:spPr>
          <a:xfrm>
            <a:off x="595440" y="38862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writesh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SM, June 30 – July 2,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Babati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 platform research activities and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2421000"/>
          <a:ext cx="7772400" cy="2936880"/>
        </p:xfrm>
        <a:graphic>
          <a:graphicData uri="http://schemas.openxmlformats.org/drawingml/2006/table">
            <a:tbl>
              <a:tblPr/>
              <a:tblGrid>
                <a:gridCol w="1090440"/>
                <a:gridCol w="1400400"/>
                <a:gridCol w="528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/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May – Sept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 and Kongwa/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analysis R4D Babati, establishment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M JUMBA, MC work plan 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form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BA in BDC; Evaluation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ward level plat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trategic level Research for Development Platform (JUMBA) established as an integrated part of Babati District Council annual budget and activity pl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 of JUM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keholder inventory and analysis completed as a preparation for establishment of six ward level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Other socio-economic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85640" y="2006640"/>
          <a:ext cx="8407440" cy="4479840"/>
        </p:xfrm>
        <a:graphic>
          <a:graphicData uri="http://schemas.openxmlformats.org/drawingml/2006/table">
            <a:tbl>
              <a:tblPr/>
              <a:tblGrid>
                <a:gridCol w="1179720"/>
                <a:gridCol w="1371600"/>
                <a:gridCol w="585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gtsson and Klerfelt (2014):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Intensification and Livelihood Strategies of Female Farmers in Babati District, Tanzania. University of Gothenb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c (iAgri)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work MSc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ozi, S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 and Effectiveness of Approaches for Adoption and Scaling of Integrated Systems Innovations among Smallholder Farmers in Babati, Tanzan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Egerton Univers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a, M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f ISFM Technology Adoption on Household Poverty in Tanzania: A Case of Smallholder Maize and Pigeon-pea Farmers in Babati Distri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Makerere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50Z</dcterms:modified>
  <cp:revision>87</cp:revision>
  <dc:subject/>
  <dc:title>Slide 1</dc:title>
</cp:coreProperties>
</file>